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1E0C-BE2F-4B95-BD82-B92AE558E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ABAA-DAB3-4C91-8930-7F9C5C77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9E0E-7392-47C4-B626-20DFC38C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D9AA-D93A-4391-9150-C8798148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0618-5C6B-497D-969C-918A1220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C734-2FBC-41E8-A62A-ADBB4A2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0A8B-DCBB-4CCD-A088-8B1093BE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ED42-A07E-45C9-8A5A-012B7D8C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D38F-F044-4272-90EF-21D436B4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94AC-6860-4CFE-9DAC-58B1A29C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3B47-A57C-4126-8BE6-5E966B94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D13-900A-410C-8D53-4287E4A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4497-0EAD-4104-8085-3DBC3F1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6CB9-16C5-4A4A-AB8C-55037766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8C9C-2E10-4A4F-8421-67D05E05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656A-C7BA-4741-9E0A-B6052350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3CFB-0962-4B1E-8B33-77D69252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A14-111D-45B4-869F-B8A02229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289-22F7-48DC-A281-5FED0E9A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6D1-74CE-416D-8DAA-49E6268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F76E-09EC-4149-BCB6-2C7CDFC7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CB4E-51BE-419F-8D3C-F52F41D4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8DA-A676-4DF5-82AB-8F431C5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087-0AB4-4805-BE73-6AC5088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2684-3E20-4F04-9C48-176FE7399C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9490-7060-4690-8C3C-992AB9B300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E93-793B-498C-8F73-833648B1E6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362320"/>
            <a:ext cx="8229600" cy="22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линичка фармација 1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авање бр.4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СНОВНИ ПРИНЦИПИ ФАРМАЦИЈЕ ЗАСНОВАНЕ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 НА ДОКАЗИМА (ФЗД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340000" y="119700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егрисане студије фармациј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1371600" y="142920"/>
            <a:ext cx="605304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EF7F-60E1-47B8-91AD-300AD17E1A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хтева вештине од лекара и  фармацеут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траживање литературе 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имену одређених правила за евалуацију доказа из литературе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7692-A451-4047-8DBC-D65D709E5E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тудије које процењују ефикасност и безбедност неког терапијског поступка или лека на пацијентима се називају клиничким студијама у ужем смислу речи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њима се заснива савремена терапијска пракса, тако да је од огромног значаја правилно проценит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валид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клиничку значајност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таквих студија, и одбацити оне које нас заводе на погрешан пу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C00-25F5-4BB8-B384-D8B1F6A685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Валидна клиничка студија мора да испуни следеће услове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ора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рандомизирана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тј. пацијенти су по принципу случајног избора сврстани у експерименталну и контролну групу) 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двоструко слеп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(тј. ни испитивачи, ни пацијенти нису знали ко прима плацебо, а ко активну контролу)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 контролна група и група која прима нови третман морају бити 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о свему сличне на почетку студије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и морају се третирати на исти начин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сви пацијенти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који су ушли у студију морају бити узети у обзир приликом извођења закључака, и анализирани у групама у којима су били на почетку (дозвољиво је да највише 20% болесника који су ушли у студију, исту не заврши до краја, већ раније «испадне» из даљег лечења и праћења)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C37-52EA-4DA6-8D43-E9BE3541BBE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значајност клиничке студиј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Мора се  узети у обзир апсолутно смањење ризика које носи нови лек, и утврдити </a:t>
            </a: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број болесника које треба лечити новим леком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да би се избегао нежељени исход код једног од њих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sr-Latn-CS" sz="3000" spc="-1" strike="noStrike">
                <a:solidFill>
                  <a:srgbClr val="ff0000"/>
                </a:solidFill>
                <a:latin typeface="Verdana"/>
              </a:rPr>
              <a:t>Number Needed to Treat -NNT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A434-2DD1-4F74-8914-E82CC69887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1     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NNT=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edukcija apsolutnog rizika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2514600" y="251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152280" y="4495680"/>
            <a:ext cx="8763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Relativni rizik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Ishod lečenja ili neželjeni događaji u kontrolnojgrup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90920" y="49528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85800" y="5638680"/>
            <a:ext cx="8001000" cy="4572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relativnog rizika = 1 – relativni riz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152280" y="3352680"/>
            <a:ext cx="8763120" cy="974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redukcij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apsolutnog rizika = rizik u kontrolnoj grupi – rizik u tretiranoj grup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BF9F-E1A6-4D85-8971-3C17DE2DBF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Интерпретација риз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Пример: Студија је дизајнирана да упореди терапију симвастатином (н=2221) у односу на плацебо (н=2223) и инциденцу смрти узроковане кардиоваскуларним болестима. Инциденца: (симвастатин) н=182; (плацебо) н=25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лативни ризик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82/256=0.71(71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Р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релатив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1-РР=1-0.71=0.29 (29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АРР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(редукција апсолутног ризика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)= (256/2223)- (182/2221) = 0.033 (3.3%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 u="sng">
                <a:solidFill>
                  <a:srgbClr val="000000"/>
                </a:solidFill>
                <a:uFillTx/>
                <a:latin typeface="Verdana"/>
              </a:rPr>
              <a:t>ННТ</a:t>
            </a:r>
            <a:r>
              <a:rPr b="0" lang="sr-CS" sz="2100" spc="-1" strike="noStrike">
                <a:solidFill>
                  <a:srgbClr val="000000"/>
                </a:solidFill>
                <a:latin typeface="Verdana"/>
              </a:rPr>
              <a:t>= 1/АРР=1/0.033 = </a:t>
            </a:r>
            <a:r>
              <a:rPr b="1" lang="sr-CS" sz="2100" spc="-1" strike="noStrike">
                <a:solidFill>
                  <a:srgbClr val="000000"/>
                </a:solidFill>
                <a:latin typeface="Verdana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18C8-2B08-4599-8E1B-F5039C1F8B3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матра се да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значајан ефекат постоји када треба лечити мање од 15 болесни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да би се избегао нежељени исход код једног од њих, али то је само слободна процена, која доста зависи од тежине нежељеног исход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је нежељени исход смрт, онда можда вреди лечити и 20 болесника да би се један од њих спасао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E1D3-1703-4AC1-9FD2-71721E96E78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итеријуми за процену валидности и клиничке значајности студије прогностичког факт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Да би студија прогностичког фактора била валидна, она мора да прати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репрезентативан 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узорак пацијената, који је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велики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i="1" lang="sr-CS" sz="3000" spc="-1" strike="noStrike" u="sng">
                <a:solidFill>
                  <a:srgbClr val="000000"/>
                </a:solidFill>
                <a:uFillTx/>
                <a:latin typeface="Verdana"/>
              </a:rPr>
              <a:t>довољно дуго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 да се види какав ће бити исход болести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A27-353E-4ABB-9EB5-495C9A4475C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алидност и кли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ј ст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ија које се бав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ивањем не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ељени</a:t>
            </a:r>
            <a:r>
              <a:rPr b="0" i="1" lang="sr-CS" sz="24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дејстава лек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 зн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ј с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в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зависно од врсте с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одол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 погле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о је студија била типа «случај-контрола», онда се као резултат добија однос могућности (енглески “оддс ратио“), који је значајан само ако је једнак или већи од 4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 била типа клин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ли к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ртне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треба видети колики је релативни ризик од настанка н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љеног дејств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ко је он в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од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3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нда рез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тат с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е има прак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ог смис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1A8-7C36-4A89-8B5A-61A5471911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рачун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дноса мог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сти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»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релативног риз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762120" y="2209680"/>
          <a:ext cx="784836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09680"/>
                    <a:ext cx="7848360" cy="3124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E972-9557-4477-B7F4-B7836EB351B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је пажљива, промишљена употреба најбољих доказа из медицинске литературе у доношењу одлуке о лечењу конкретног болесник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дивидуално клиничко искуство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се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мо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интегрисати са резултатима (доказима) клиничких студија, које су методолошки биле добро постављене, и чији резултати имају клинички значај, тј. њихова примена у пракси има смисла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45A9-0166-4053-9740-47CB70C66E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ред односа мог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ости и релативног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рисно је одредити 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псол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тно пове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ање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а пример, ако је апсолутни ризик од појаве урођене аномалије мозга код деце чије мајке у трудноћи нису користиле лекове 1%, а код деце чије мајке су узимале антиепилептик валпроат 2%, онда је апсолутно повећање ризика од аномалија мозга са применом валпроата једнако 2% - 1% = 1%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 заправо з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јенткиња треб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н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д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има валпроат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а би се код детета само једне од њ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јавиле аномалије мозга на ро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(100/1 = 100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97C-1D75-49C7-BF37-13ADA8F9F64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вакву величину, која представља </a:t>
            </a:r>
            <a:r>
              <a:rPr b="1" i="1" lang="sr-CS" sz="2600" spc="-1" strike="noStrike">
                <a:solidFill>
                  <a:srgbClr val="000000"/>
                </a:solidFill>
                <a:latin typeface="Verdana"/>
              </a:rPr>
              <a:t>реципрочну вредност апсолутног повећања ризи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називамо «број болесника које треба лечити да би се код једног јавило нежељено дејство», или енглески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умбер неедед то харм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)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ко из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мо ННХ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ље 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мо раз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ети каквом се заправо ризи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л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јен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им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ћ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од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ни лек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0D1-158F-4527-97C4-BD381E589B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1619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Петар Петровић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,78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 година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Имао је ИМ пре два месеца , добро се осећа, лабораторијски налази показују да има холестерола у границама нормал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Међутим, обратио се за савет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да ли треба да користи неки лек статин, који је прописан његовом пријатељу који је такође имао ИМ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sr-C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A754-AC51-439E-83F8-DED2FC23C1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 </a:t>
            </a:r>
            <a:r>
              <a:rPr b="0" lang="sr-Latn-CS" sz="3400" spc="-1" strike="noStrike">
                <a:solidFill>
                  <a:srgbClr val="ff0000"/>
                </a:solidFill>
                <a:latin typeface="Arial Rounded MT Bold"/>
              </a:rPr>
              <a:t>PICO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7994520" cy="556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P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tient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од пацијенат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&gt;7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са ИМ ,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али холестерол је у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нормалним вредностима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I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tervention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реба да се укључи и                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терапија статином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C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mparison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као додатна терапија  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Verdana"/>
              </a:rPr>
              <a:t>O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tcome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.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јер смањује морталитет или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</a:rPr>
              <a:t>морбидите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B5C7-78A3-4A0F-B7C6-21183856A6B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 Rounded MT Bold"/>
              </a:rPr>
              <a:t>Примена поуздане информације у пракси </a:t>
            </a:r>
            <a:r>
              <a:rPr b="0" lang="en-GB" sz="3400" spc="-1" strike="noStrike">
                <a:solidFill>
                  <a:srgbClr val="000000"/>
                </a:solidFill>
                <a:latin typeface="Arial Rounded MT Bold"/>
              </a:rPr>
              <a:t>…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8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Verdana"/>
              </a:rPr>
              <a:t>Heart Protection Study  </a:t>
            </a:r>
            <a:r>
              <a:rPr b="0" i="1" lang="en-GB" sz="3300" spc="-1" strike="noStrike">
                <a:solidFill>
                  <a:srgbClr val="000000"/>
                </a:solidFill>
                <a:latin typeface="Verdana"/>
              </a:rPr>
              <a:t>(Lancet 2002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Statin therapy offers a 33% reduction in further CHD events in high risk patients </a:t>
            </a:r>
            <a:r>
              <a:rPr b="1" i="1" lang="en-GB" sz="2900" spc="-1" strike="noStrike">
                <a:solidFill>
                  <a:srgbClr val="000000"/>
                </a:solidFill>
                <a:latin typeface="Verdana"/>
              </a:rPr>
              <a:t>EVEN </a:t>
            </a: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when cholesterol normal or low</a:t>
            </a:r>
            <a:r>
              <a:rPr b="0" lang="sr-CS" sz="29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5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Нашем пацијену- Петру Петровићу </a:t>
            </a:r>
            <a:r>
              <a:rPr b="1" lang="sr-CS" sz="2300" spc="-1" strike="noStrike">
                <a:solidFill>
                  <a:srgbClr val="000000"/>
                </a:solidFill>
                <a:latin typeface="Verdana"/>
              </a:rPr>
              <a:t>треба</a:t>
            </a:r>
            <a:r>
              <a:rPr b="0" lang="sr-CS" sz="2300" spc="-1" strike="noStrike">
                <a:solidFill>
                  <a:srgbClr val="000000"/>
                </a:solidFill>
                <a:latin typeface="Verdana"/>
              </a:rPr>
              <a:t> препоручити укључивање статина</a:t>
            </a:r>
            <a:r>
              <a:rPr b="0" lang="en-GB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EA9B-EA15-4EB1-A393-90AD6BD432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Verdana"/>
              </a:rPr>
              <a:t>ФЗД почиње и завршава се са пацијентом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Истраживачки алгорит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Формулисати питање у односу на потребе пацијен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Тражити одговор са најбољим доказим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Критички вршити процену доказа који смо пронашл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именити резултате у пракс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lnSpc>
                <a:spcPct val="125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1059-CEE5-4E9F-A16A-96BE7446C7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47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Процена резултат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Надзо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иничка ефикаснос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трошко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одатака о пацијен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Анализа прописане терапије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Референтне стоп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пен морталитет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Calibri"/>
              </a:rPr>
              <a:t>/морбидите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679A-91AE-4D6B-BB04-E58B292B8CF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Кораци у спровођењу 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етраживање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Критичка обрада литератур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Формулисање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вера применљивости одговор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имена резулта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роцена ефеката ФЗД у пракс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F1A3-01B0-49FB-8A7A-654EF575D6E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2432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кључни извор знања у доношењу клиничких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одлука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Diagram 7"/>
          <p:cNvGrpSpPr/>
          <p:nvPr/>
        </p:nvGrpSpPr>
        <p:grpSpPr>
          <a:xfrm>
            <a:off x="3547800" y="1809720"/>
            <a:ext cx="4876920" cy="3926520"/>
            <a:chOff x="3547800" y="1809720"/>
            <a:chExt cx="4876920" cy="3926520"/>
          </a:xfrm>
        </p:grpSpPr>
        <p:sp>
          <p:nvSpPr>
            <p:cNvPr id="99" name="_s1028"/>
            <p:cNvSpPr/>
            <p:nvPr/>
          </p:nvSpPr>
          <p:spPr>
            <a:xfrm flipH="1" flipV="1">
              <a:off x="4783320" y="3556800"/>
              <a:ext cx="599760" cy="164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_s1029"/>
            <p:cNvSpPr/>
            <p:nvPr/>
          </p:nvSpPr>
          <p:spPr>
            <a:xfrm>
              <a:off x="3547800" y="2902320"/>
              <a:ext cx="1266480" cy="10591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Закључак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репорук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_s1030"/>
            <p:cNvSpPr/>
            <p:nvPr/>
          </p:nvSpPr>
          <p:spPr>
            <a:xfrm flipH="1">
              <a:off x="5240160" y="4314240"/>
              <a:ext cx="373680" cy="42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_s1031"/>
            <p:cNvSpPr/>
            <p:nvPr/>
          </p:nvSpPr>
          <p:spPr>
            <a:xfrm>
              <a:off x="4237200" y="4677120"/>
              <a:ext cx="1266480" cy="105912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валитет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доказ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32"/>
            <p:cNvSpPr/>
            <p:nvPr/>
          </p:nvSpPr>
          <p:spPr>
            <a:xfrm>
              <a:off x="6356880" y="4314240"/>
              <a:ext cx="37188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467040" y="4677120"/>
              <a:ext cx="1266480" cy="10591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Евалуација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Verdana"/>
                </a:rPr>
                <a:t>литератур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4"/>
            <p:cNvSpPr/>
            <p:nvPr/>
          </p:nvSpPr>
          <p:spPr>
            <a:xfrm flipV="1">
              <a:off x="6587640" y="3558600"/>
              <a:ext cx="601920" cy="16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5"/>
            <p:cNvSpPr/>
            <p:nvPr/>
          </p:nvSpPr>
          <p:spPr>
            <a:xfrm>
              <a:off x="7158240" y="2902320"/>
              <a:ext cx="1266480" cy="10591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одговарајућ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информациј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6"/>
            <p:cNvSpPr/>
            <p:nvPr/>
          </p:nvSpPr>
          <p:spPr>
            <a:xfrm flipV="1">
              <a:off x="5985360" y="2827080"/>
              <a:ext cx="0" cy="52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7"/>
            <p:cNvSpPr/>
            <p:nvPr/>
          </p:nvSpPr>
          <p:spPr>
            <a:xfrm>
              <a:off x="5318640" y="1809720"/>
              <a:ext cx="1266480" cy="10591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Клиничко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ffffff"/>
                  </a:solidFill>
                  <a:latin typeface="Verdana"/>
                </a:rPr>
                <a:t>питање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8"/>
            <p:cNvSpPr/>
            <p:nvPr/>
          </p:nvSpPr>
          <p:spPr>
            <a:xfrm>
              <a:off x="5318640" y="3393720"/>
              <a:ext cx="1266480" cy="10591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Verdana"/>
                </a:rPr>
                <a:t>ФЗД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AutoShape 31"/>
            <p:cNvSpPr/>
            <p:nvPr/>
          </p:nvSpPr>
          <p:spPr>
            <a:xfrm>
              <a:off x="6857280" y="2056320"/>
              <a:ext cx="684720" cy="76212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639371"/>
                  <a:lnTo>
                    <a:pt x="2064" y="4450"/>
                  </a:lnTo>
                  <a:arcTo wR="10800" hR="10800" stAng="-8639371" swAng="8639371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1" name="AutoShape 30"/>
          <p:cNvSpPr/>
          <p:nvPr/>
        </p:nvSpPr>
        <p:spPr>
          <a:xfrm>
            <a:off x="6858000" y="2057400"/>
            <a:ext cx="685800" cy="762120"/>
          </a:xfrm>
          <a:custGeom>
            <a:avLst/>
            <a:gdLst>
              <a:gd name="textAreaLeft" fmla="*/ 100440 w 685800"/>
              <a:gd name="textAreaRight" fmla="*/ 585360 w 685800"/>
              <a:gd name="textAreaTop" fmla="*/ 111600 h 762120"/>
              <a:gd name="textAreaBottom" fmla="*/ 65052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9071" y="5399"/>
                  <a:pt x="7447" y="6227"/>
                  <a:pt x="6431" y="7625"/>
                </a:cubicBezTo>
                <a:lnTo>
                  <a:pt x="2063" y="4450"/>
                </a:lnTo>
                <a:cubicBezTo>
                  <a:pt x="4095" y="1654"/>
                  <a:pt x="7343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622-4164-47DA-B9EE-B0110C47F3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 је заснована на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Verdana"/>
              </a:rPr>
              <a:t>научном метод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дентификовање проблем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икупљање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валуација информациј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епорук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хо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Поред тога на доношење одлука утич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куство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уторите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стражив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гичко размишљањ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9632-371E-4985-B707-B6DD1FCF3F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ФЗ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је интеграција клиничког искуства, система вредности пацијента и најбољих доказа из литератур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окази сами по себи не доводе до закључака, већ само помажу у одређивању најбољег третмана пацијент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5C7-6D06-4B02-AA86-5F5C1AFD38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Verdana"/>
              </a:rPr>
              <a:t>Постављање пробле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рад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а болес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а се спонтано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које морамо р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ат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 на основ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ми </a:t>
            </a:r>
            <a:r>
              <a:rPr b="1" i="1" lang="ru-RU" sz="2600" spc="-1" strike="noStrike">
                <a:solidFill>
                  <a:srgbClr val="ff0000"/>
                </a:solidFill>
                <a:latin typeface="Verdana"/>
              </a:rPr>
              <a:t>постављамо питањ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 која потом 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мо одгово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и се јављај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у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стављ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зе болест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кр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њеног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рок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дијагност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и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етода које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 најпре довести до дијагноз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бор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на л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ења 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дре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ђ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вањ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гнозе лечења болесника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53F-AF37-47F3-B94A-B0749F76B9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ње проблема много зависи од </a:t>
            </a:r>
            <a:r>
              <a:rPr b="0" lang="ru-RU" sz="2400" spc="-1" strike="noStrike">
                <a:solidFill>
                  <a:srgbClr val="ff0000"/>
                </a:solidFill>
                <a:latin typeface="Verdana"/>
              </a:rPr>
              <a:t>правилног постављања питањ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бро постављено питање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ек им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 4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елемента</a:t>
            </a:r>
            <a:r>
              <a:rPr b="0" lang="sr-CS" sz="1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зно д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исано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која се планира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алтернатив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нтервен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ј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 којом се планирана интерв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ђ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ис</a:t>
            </a:r>
            <a:r>
              <a:rPr b="1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од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који се о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к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во примера добро постављеног питањ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а ли код болесника с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рон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ом ср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аном инс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ф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е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јом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3.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тепен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стање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имена АЦ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ибитор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планира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мањ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је смртност болесник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с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х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од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ш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 или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мање од блокатора ре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ептора за ангиотензин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алтернативна интервен</a:t>
            </a:r>
            <a:r>
              <a:rPr b="0" i="1" lang="sr-CS" sz="1700" spc="-1" strike="noStrike">
                <a:solidFill>
                  <a:srgbClr val="336699"/>
                </a:solidFill>
                <a:latin typeface="Verdana"/>
              </a:rPr>
              <a:t>ц</a:t>
            </a:r>
            <a:r>
              <a:rPr b="0" i="1" lang="ru-RU" sz="1700" spc="-1" strike="noStrike">
                <a:solidFill>
                  <a:srgbClr val="336699"/>
                </a:solidFill>
                <a:latin typeface="Verdana"/>
              </a:rPr>
              <a:t>ија</a:t>
            </a:r>
            <a:r>
              <a:rPr b="0" lang="sr-CS" sz="1700" spc="-1" strike="noStrike">
                <a:solidFill>
                  <a:srgbClr val="000000"/>
                </a:solidFill>
                <a:latin typeface="Verdana"/>
              </a:rPr>
              <a:t>)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D560-07BB-49DB-BBCF-BF7EADACC8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де и како тра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мо одговоре на питања која постављамо током третман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е свега треба претр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ти </a:t>
            </a: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базе податак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на Интернет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у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је садр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ж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 систематске прегледне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анке о појединим клини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ч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им проблеми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најпоузданија од таквих база је </a:t>
            </a:r>
            <a:r>
              <a:rPr b="1" lang="sr-CS" sz="2600" spc="-1" strike="noStrike">
                <a:solidFill>
                  <a:srgbClr val="000000"/>
                </a:solidFill>
                <a:latin typeface="Verdana"/>
              </a:rPr>
              <a:t>Кохранова база података</a:t>
            </a:r>
            <a:r>
              <a:rPr b="0" lang="sr-CS" sz="2600" spc="-1" strike="noStrike">
                <a:solidFill>
                  <a:srgbClr val="000000"/>
                </a:solidFill>
                <a:latin typeface="Verdana"/>
              </a:rPr>
              <a:t> јер су сви ситематски прегледни чланци у њој рађени према методолошким принципима МЗД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9-12T21:39:25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